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0720" y="401400"/>
            <a:ext cx="8236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0720" y="401400"/>
            <a:ext cx="8236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0720" y="401400"/>
            <a:ext cx="8236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278160"/>
            <a:ext cx="9144000" cy="271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3278160"/>
            <a:ext cx="9144000" cy="27208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571600" y="65008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D5DF-F945-4400-8644-EB26C92A88C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132520" y="6510240"/>
            <a:ext cx="36558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1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© Copyright 2008 Your Organiz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46040" y="141552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99"/>
              </a:spcBef>
              <a:buClr>
                <a:srgbClr val="4d4d4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47680">
              <a:spcBef>
                <a:spcPts val="499"/>
              </a:spcBef>
              <a:buClr>
                <a:srgbClr val="4d4d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4d4d4d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3" marL="1422360" indent="-16812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1778040" indent="-17136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5" marL="1778040" indent="-17136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6" marL="1778040" indent="-17136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32520" y="6510240"/>
            <a:ext cx="36558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1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d4d4d"/>
                </a:solidFill>
                <a:latin typeface="Arial"/>
              </a:rPr>
              <a:t>© Copyright 2008 Your Organiz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571600" y="65008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A159-E8A4-414A-8326-48915F406D18}" type="slidenum">
              <a:rPr b="0" lang="en-US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5160" y="1415880"/>
            <a:ext cx="7840800" cy="5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2487600"/>
            <a:ext cx="9144000" cy="3206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096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603360" indent="253800" algn="ctr">
              <a:spcBef>
                <a:spcPts val="400"/>
              </a:spcBef>
              <a:buClr>
                <a:srgbClr val="4d4d4d"/>
              </a:buClr>
              <a:buSzPct val="11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3" marL="919080" indent="335160" algn="ctr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4" marL="1203480" indent="403200" algn="ctr"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lvl="5" marL="1203480" indent="403200"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lvl="6" marL="1203480" indent="403200"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onetrees.com/" TargetMode="External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onetrees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1066320"/>
            <a:ext cx="8259840" cy="9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Presentation Titl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476600" y="5970600"/>
            <a:ext cx="456264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By Nam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Designation, Organiz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0720" y="401760"/>
            <a:ext cx="8236080" cy="51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Slide Title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46040" y="141552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Clr>
                <a:srgbClr val="4d4d4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irst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38080" indent="-342720">
              <a:spcBef>
                <a:spcPts val="451"/>
              </a:spcBef>
              <a:buClr>
                <a:srgbClr val="4d4d4d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62080" indent="-304920">
              <a:spcBef>
                <a:spcPts val="400"/>
              </a:spcBef>
              <a:buClr>
                <a:srgbClr val="4d4d4d"/>
              </a:buClr>
              <a:buSzPct val="11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3" marL="1521000" indent="-266760">
              <a:spcBef>
                <a:spcPts val="349"/>
              </a:spcBef>
              <a:buClr>
                <a:srgbClr val="4d4d4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Fourth leve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4" marL="1797120" indent="-190440">
              <a:spcBef>
                <a:spcPts val="249"/>
              </a:spcBef>
              <a:buClr>
                <a:srgbClr val="4d4d4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Fifth leve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lvl="4" marL="179712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4d4d4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ff"/>
                </a:solidFill>
                <a:uFillTx/>
                <a:latin typeface="Arial"/>
                <a:hlinkClick r:id="rId1"/>
              </a:rPr>
              <a:t>Hyperlink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nding Slides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1295280"/>
            <a:ext cx="8236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e presentation template was designed by Abhay R of Cone Trees, a User Research &amp; Design consultancy and resource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You are more than welcome to use and modify this template for your own presenta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Last Slid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1295280"/>
            <a:ext cx="8236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n case you like the template, let others as well as me know. </a:t>
            </a:r>
            <a:br>
              <a:rPr sz="2000"/>
            </a:b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   </a:t>
            </a:r>
            <a:br>
              <a:rPr sz="2000"/>
            </a:b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Visit me at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onetrees.com</a:t>
            </a:r>
            <a:r>
              <a:rPr b="0" lang="en-US" sz="2000" spc="-1" strike="noStrike" u="sng">
                <a:solidFill>
                  <a:srgbClr val="333333"/>
                </a:solidFill>
                <a:uFillTx/>
                <a:latin typeface="Arial"/>
              </a:rPr>
              <a:t>  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333333"/>
                </a:solidFill>
                <a:uFillTx/>
                <a:latin typeface="Arial"/>
              </a:rPr>
              <a:t>Email me at : hello/at/conetrees/dot/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6:30:44Z</dcterms:created>
  <dc:creator>Abhay R</dc:creator>
  <dc:description>If you are looking for an elegant powerpoint template, here's one free of cost. In case you like it, let others as well as me know</dc:description>
  <cp:keywords>Clean Elegant Corporate Powerpoint Template Free</cp:keywords>
  <dc:language>en-US</dc:language>
  <cp:lastModifiedBy>abhay.rautela</cp:lastModifiedBy>
  <dcterms:modified xsi:type="dcterms:W3CDTF">2008-10-11T16:08:49Z</dcterms:modified>
  <cp:revision>12</cp:revision>
  <dc:subject/>
  <dc:title>Clean &amp; Elegant Corporate Powerpoint Template</dc:title>
</cp:coreProperties>
</file>